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7D1-869D-46E3-BA69-EAE1468A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93B-D36E-42CF-9388-672289F4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97B-C11D-4C57-BE9B-9381684D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D82-55C2-4E06-883D-20D4F38B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01CD-8668-497C-821D-86EA926A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57AC-4CB7-43B4-9F42-BB7742C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8E5F-76B0-4900-BEDE-BB651A5C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912C-7044-47E0-89FC-61D235B8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7B7C-8790-4D95-805B-D0775D6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EC2-705E-43A3-BD58-69DFB2E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6FEE-BDD4-432C-9206-7E707FD3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DA7-1A65-4B0B-9B2E-003C03EB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D77B-7B8B-4DCF-97EB-D5EF97C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AE2-0484-4AE4-A856-750C7DF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1C64-8553-41C6-B969-9B1C15F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EBC-D10F-42CE-9681-31AD83F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3935-6860-4434-899A-76F3B49B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141E-896B-4DE4-A99D-A1324701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C383-188B-43E3-A88B-B41706F2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9F00-2F6C-4F07-8B75-04472E7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7B01-F7C4-4DBF-9972-8A10E05E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C18C-393F-47BD-A642-FEF9EED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64B-95CA-46E2-A930-0907C01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A99B-C40D-4501-ADD6-3292410A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B594-AEA7-4770-BB89-31E4558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6EF0-91E2-466F-94AD-1A3489E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18AE-DF68-4829-ABC1-568AB57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4E20-6742-4264-AF52-F1AADF1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FB95-28F6-4327-B0C2-59D55D35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F4BC-FC82-4AAB-B601-C9C97128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1F31-192E-4816-87A1-93E6E194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C669-984C-4960-B4D5-E9787E1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995D-18DC-4BC6-A6AA-6B2BC337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A45-A496-4744-9BE5-7C7E0B23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3E8A-3C65-4484-A716-9D35ABCA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B5AC-FF79-45A8-8166-CC55B0D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D8A2-0ED3-4A9D-8D53-CA5C8719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2959-17A4-459D-A5C3-6E659B2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3746-27BA-44A3-9542-3DA22C8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E7E9-1BF8-43D2-B018-BFC95AC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B450-AA28-4274-8000-0F4F1012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B80C-1475-4680-B30E-6DB55A20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8957-08C2-4A5A-8284-3752FA99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0C5-EDE3-401B-A089-6EEC3993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4D3-E87B-4DDC-B1F1-40DB04AF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7B9-F39B-4D4C-8560-1954521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69C-E14C-4203-93EC-9D445B5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839-4F39-4E8B-B968-79278ED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4CD8-127F-4762-8EE7-0A36CE7980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6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735-5BD3-44EC-8FEE-8D8AC04C65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5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6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9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3A1-4F27-459F-9144-DB1DF7EDBC4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9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2D9-C85B-46DB-BAF5-B41DB90BAF4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Courier New"/>
              </a:rPr>
              <a:t>Свободное падение тел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Monotype Corsiva"/>
              </a:rPr>
              <a:t>9 класс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3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времени падал бы груз с высоты Останкинской телебашни (540 м)? Какова бы была его скорость в момент паде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оговое обобщ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движение называют свободным падение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свободное падение равноускоренным движение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ми формулами описывается свободное падение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инаково ли ускорение свободного падения в различных точках земного шар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13,  упр.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ОПРЕДЕЛ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вободным падением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тел называют падение тел на Землю под действием силы тяжести в отсутствие сопротивления воздуха (в пустоте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скорение, с которым падают на Землю тела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ускорением свободного пад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Вектор ускорения свободного падения обозначается символом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он направлен по вертикали вниз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6589800" y="43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99"/>
                </a:solidFill>
                <a:latin typeface="Tahoma"/>
                <a:ea typeface="Arial"/>
              </a:rPr>
              <a:t>Ускорение свободного падения на различных широтах: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азличных точках земного шара в зависимости от географической широты и высоты над уровнем моря числов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казывается неодинаковым, изменяясь примерно от 9,83 м/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полюсах до 9,78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экваторе. На широте Москв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= 9,81523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бычно, если в расчетах не требуется высокая точность, то принимают числовое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 поверхности Земли равным 9,8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ли даже 10 м/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логия между формулами равноускоренного движения и свободным падение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16192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"/>
          <p:cNvSpPr/>
          <p:nvPr/>
        </p:nvSpPr>
        <p:spPr>
          <a:xfrm>
            <a:off x="2268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3059280" y="2133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558000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6156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80400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16192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2268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3059280" y="2637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>
            <a:off x="558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622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702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Движение тела вертикально</a:t>
            </a:r>
            <a:br>
              <a:rPr sz="4400"/>
            </a:b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вниз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1004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36720" y="201564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ходим к проекциям на ос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начальная скорость те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, то υ =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22"/>
          <p:cNvSpPr/>
          <p:nvPr/>
        </p:nvSpPr>
        <p:spPr>
          <a:xfrm>
            <a:off x="1258920" y="278136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3"/>
          <p:cNvSpPr/>
          <p:nvPr/>
        </p:nvSpPr>
        <p:spPr>
          <a:xfrm>
            <a:off x="1835280" y="3189240"/>
            <a:ext cx="455400" cy="455760"/>
          </a:xfrm>
          <a:prstGeom prst="flowChartConnector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2050920" y="3645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2700360" y="3500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219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270036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8"/>
          <p:cNvSpPr/>
          <p:nvPr/>
        </p:nvSpPr>
        <p:spPr>
          <a:xfrm>
            <a:off x="5003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5364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0"/>
          <p:cNvSpPr/>
          <p:nvPr/>
        </p:nvSpPr>
        <p:spPr>
          <a:xfrm>
            <a:off x="586728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1"/>
          <p:cNvSpPr/>
          <p:nvPr/>
        </p:nvSpPr>
        <p:spPr>
          <a:xfrm>
            <a:off x="500364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>
            <a:off x="5435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4"/>
          <p:cNvSpPr/>
          <p:nvPr/>
        </p:nvSpPr>
        <p:spPr>
          <a:xfrm>
            <a:off x="601200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Движение тела вертикально</a:t>
            </a:r>
            <a:br>
              <a:rPr sz="4400"/>
            </a:br>
            <a:r>
              <a:rPr b="0" lang="ru-RU" sz="4400" spc="-1" strike="noStrike">
                <a:solidFill>
                  <a:srgbClr val="00e4a8"/>
                </a:solidFill>
                <a:latin typeface="Tahoma"/>
              </a:rPr>
              <a:t>вверх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ходим к проекциям на о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υ = - υ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 = 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начальная скорость те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0, то υ = 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7164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1476360" y="263700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668600" y="3500280"/>
            <a:ext cx="455400" cy="455760"/>
          </a:xfrm>
          <a:prstGeom prst="flowChartConnector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1908000" y="292428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2771640" y="2781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>
            <a:off x="205092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4"/>
          <p:cNvSpPr/>
          <p:nvPr/>
        </p:nvSpPr>
        <p:spPr>
          <a:xfrm>
            <a:off x="291636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5"/>
          <p:cNvSpPr/>
          <p:nvPr/>
        </p:nvSpPr>
        <p:spPr>
          <a:xfrm>
            <a:off x="550872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601200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"/>
          <p:cNvSpPr/>
          <p:nvPr/>
        </p:nvSpPr>
        <p:spPr>
          <a:xfrm>
            <a:off x="658800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558000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608472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6804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свободном падении первое тело находилось в полете в два раза больше времени, чем второе. Сравнить конечные скорости те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их перемещ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ло брошено вертикально вверх с начальной скоростью 30 м/с. Через какой промежуток времени оно будет на высоте 25 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0:50:01Z</dcterms:created>
  <dc:creator>home</dc:creator>
  <dc:description/>
  <dc:language>en-US</dc:language>
  <cp:lastModifiedBy>Owner</cp:lastModifiedBy>
  <dcterms:modified xsi:type="dcterms:W3CDTF">2012-08-17T13:37:00Z</dcterms:modified>
  <cp:revision>8</cp:revision>
  <dc:subject/>
  <dc:title>Слайд 1</dc:title>
</cp:coreProperties>
</file>